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694-BCA0-47C6-8802-84ED8848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976-EA27-4698-8937-C537106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4DC-F7AD-44C2-A0E2-99D9DAAE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420-E168-4D79-90D0-7CC4CABA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6C995-27C6-4797-B8DA-BCE6BC2843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0904F-1670-433C-B457-257601E73C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0EFD4-CEB1-4EB2-B136-215ECE77B2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8CD7C-102E-4772-9930-3A1489599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6A4EE-D8F6-45BB-B933-6A0B3BA391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88C03-894F-4D9E-A7A0-123ED8563B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FA889-A6F3-48D3-8791-136313DF6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18E-3655-4B72-9CCB-BEC2D3ED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A95BC-8DCE-4F65-A92C-F51262AFC7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CC4E-22FD-4CC6-9C8E-1F4A7DD5B3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3921C-1075-42CD-B348-92753D3FA1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D26CC-ED1A-49A3-BB38-F7C634412B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D5C78-B17B-4753-8B20-53B3B0FC3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235-4D3C-435C-B1FD-BD62EFF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FFC-EB90-4C4B-8CBA-25032891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609-1423-4A3F-949A-E6786C6D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858-BB63-45C0-8251-C33A56A6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764-E04D-43AB-9161-367F92A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B61-74DA-4D89-8160-508D1FEA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1A4-332A-4D14-812D-9A0A2EC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-12 Alliance/WesEd ‘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E136-2FC1-456B-A01B-9A2F33BA8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879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1676520"/>
            <a:ext cx="86104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-12 Alliance/WesEd ‘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6140-5E5E-4EFC-ACC0-22F307603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87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86104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topps@wested.org" TargetMode="External"/><Relationship Id="rId2" Type="http://schemas.openxmlformats.org/officeDocument/2006/relationships/hyperlink" Target="mailto:kdirann@wested.org" TargetMode="External"/><Relationship Id="rId3" Type="http://schemas.openxmlformats.org/officeDocument/2006/relationships/hyperlink" Target="mailto:melissa.smith@leusd.k12.ca.us" TargetMode="External"/><Relationship Id="rId4" Type="http://schemas.openxmlformats.org/officeDocument/2006/relationships/hyperlink" Target="mailto:melissa.smith@leusd.k12.ca.us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ing with the Conceptual Fl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sented b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o Topps, Regional Director, K-12 Alliance/ West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jtopps@wested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athy DiRanna, Statewide Director, K-12 Alliance/ West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kdirann@wested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lissa Smith, TOSA,  Lake Elsinore Unified School Distric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melissa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.smith@leusd.k12.ca.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SDC 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ive Assess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about where you would need an assessment in this conceptual fl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lag at critical points that will inform instru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1050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: a PLC To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the conceptual flow process help build professional learning communiti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the conceptual flow process help enhance teacher qual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nsford, John D., Ann L. Brown, Rodney C. Cocking, How People Learn,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ational Academy P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19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anna, Kathryn, Ellen Osmundson, Jo Topps, Lynn Barakos, Maryl Gerhardt,  Karen Cerwin, Diane Carnahan, Craig Strang,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sessment- Centered Teaching: A Reflective Practi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orwin Press,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Outco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how the use of conceptual flow builds a community of learners at school/district si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ence the development of a conceptual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the value of a conceptual flow as a guide for:  aligning standards,  instruction,  assessment points and evaluating instructional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 how several districts have used the conceptual flow to change teacher practice and district polic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aching and Lear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about a content area you reall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go about learning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ual Flow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w People Lear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 Finding #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evelop competence in an area of learning, students must have both a deep foundation of factual knowledge and a strong conceptual framework…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to expertise is the mastery of concepts that allow for deep understanding of that information, transforming it from a set of facts into usable knowledg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unlike pure acquisition of factual knowledge, the mastery of concepts facilitates transfer of learning to new problems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research has clear implications for what is taught, how it is taught, and the preparation required for teaching.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ransford, 1999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 Bas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ails the important concep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s an instructional sequ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s important concepts for assessment of student understa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s as a tool for evaluation of instructional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DiRanna, Osmundson, Topps, Gerhardt, Barakos, Cerwin, Carnahan, Strang, 2008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3276720"/>
          <a:ext cx="73342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73342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ldilocks and the Three Bea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e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big ideas in the sto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smaller ideas in the sto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ick Write Promp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should an exiting 9th grader know about ecosyste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7880" y="3567240"/>
          <a:ext cx="3799080" cy="262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7880" y="3567240"/>
                    <a:ext cx="379908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 Proc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) Conduct an individual pre-think of the important concepts a student should know about a big ide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) Create a collaborative pre-think from the individual pre-thin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) Match collaborative pre-think to concepts addressed in the instructional materia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) Align concepts from the collaborative pre-think and instructional materials to content standard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) Review progression of concepts and place them in an instructional sequence with the strongest possible links for student understanding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718080" y="7299360"/>
            <a:ext cx="183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8:34:09Z</dcterms:created>
  <dc:creator>Kathy DiRanna</dc:creator>
  <dc:description/>
  <dc:language>en-US</dc:language>
  <cp:lastModifiedBy>WestEd Staff</cp:lastModifiedBy>
  <cp:lastPrinted>2009-12-01T15:22:09Z</cp:lastPrinted>
  <dcterms:modified xsi:type="dcterms:W3CDTF">2009-12-01T15:25:40Z</dcterms:modified>
  <cp:revision>32</cp:revision>
  <dc:subject/>
  <dc:title>PowerPoint Presentation</dc:title>
</cp:coreProperties>
</file>